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6116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2EB5-E88F-433E-A42F-8B6702D9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738-41E1-4571-A1A1-BFB94BA1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723-F624-400B-9296-6BA0F7FF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10C7-C298-4DAB-945E-AC4F5E9C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DFA0-10C6-4A9E-BA6A-1D701D01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A37E-28FD-43C5-AFA1-807302E7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047D-E7EE-4909-85F7-044F1EC6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8141-5214-4FC7-83F0-8CF61646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B001-D9C3-4D67-A8F5-6241A1E3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381E-2B8E-4612-8FB1-DBE91840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4126-5E05-4689-9580-A5EF5E83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8C0-6E78-4EAE-A537-661BFAE0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DC44-D025-445C-B72C-95213F6C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C613-D5A8-45AA-8410-55EF918D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843E-9B0A-4AAD-A741-BDF3481C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95CD-943B-4BF7-A262-63504F3C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B162-28D2-4C3E-961A-4F9F5983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392-D648-4B48-A1E7-AA47FE4C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C695-CC20-44FB-863B-BB6F3F80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D53-9C28-4512-B6BA-906324C6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5CE5-5573-4D7C-80B2-B5964E3F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126-C57C-41F5-8DF7-6121DE9E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2495-9D98-401C-9B31-F7944B94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F8C7-692F-45B1-A2EA-D64843B2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7AC4-81D8-4C42-8551-93FD1B94CBB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8682120" y="4952880"/>
          <a:ext cx="46044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82120" y="4952880"/>
                    <a:ext cx="4604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C854-C2AA-4E87-9BC9-BE41BAF0B6F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69120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Comic Sans MS"/>
              </a:rPr>
              <a:t>Clarity about Learning</a:t>
            </a:r>
            <a:endParaRPr b="0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480440" y="0"/>
          <a:ext cx="16570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80440" y="0"/>
                    <a:ext cx="1657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Where do you start?</a:t>
            </a: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Learning Intentions may be derived from:</a:t>
            </a:r>
            <a:endParaRPr b="0" lang="en-US" sz="3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Linking to the National Curriculum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Other curriculum resourc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Assessment that has identified a learning need (e.g., asTTle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Reflective discussions between teachers and students that indicate the next learning step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ahoma"/>
              </a:rPr>
              <a:t>Remember to </a:t>
            </a:r>
            <a:br>
              <a:rPr sz="4000"/>
            </a:br>
            <a:r>
              <a:rPr b="1" lang="en-US" sz="4000" spc="-1" strike="noStrike">
                <a:solidFill>
                  <a:srgbClr val="ff9900"/>
                </a:solidFill>
                <a:latin typeface="Tahoma"/>
              </a:rPr>
              <a:t>Establish Relevance</a:t>
            </a:r>
            <a:endParaRPr b="0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ell the students why they are learning this at all, or….…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cuss with them when they think they will use/need this learning, or...…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hare with them how it fits into the bigger pictur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50920" y="457200"/>
            <a:ext cx="87138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Follow the Learning Intention with an opportunity to create the </a:t>
            </a:r>
            <a:r>
              <a:rPr b="1" i="1" lang="en-US" sz="3200" spc="-1" strike="noStrike" u="sng">
                <a:solidFill>
                  <a:srgbClr val="ff9900"/>
                </a:solidFill>
                <a:uFillTx/>
                <a:latin typeface="Tahoma"/>
              </a:rPr>
              <a:t>Success Criter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413000" y="2400480"/>
            <a:ext cx="734040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ow will we know when we have met the Learning Intention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ow will we show that we understand what it is we are Learning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What will be the evidence that we’ve learnt this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What steps would lead us to achieving the learning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5157720"/>
            <a:ext cx="79218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Tahoma"/>
              </a:rPr>
              <a:t> ‘</a:t>
            </a:r>
            <a:r>
              <a:rPr b="1" lang="en-NZ" sz="4000" spc="-1" strike="noStrike">
                <a:solidFill>
                  <a:srgbClr val="ff9900"/>
                </a:solidFill>
                <a:latin typeface="Tahoma"/>
              </a:rPr>
              <a:t>Product’ and ‘Process’ Criteria:</a:t>
            </a:r>
            <a:endParaRPr b="0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oduct: 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What it is about the finished product that shows you’ve been successfu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ocess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What steps I could take to make sure the finished product is successfu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epending on the learning, one may be more useful than the other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56840"/>
            <a:ext cx="822636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ahoma"/>
              </a:rPr>
              <a:t>Why have Success Criteria?</a:t>
            </a:r>
            <a:endParaRPr b="0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o the teacher and the students are clear about what it is they are going to be judged or evaluated on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o the students have something definitive to refer back to when they want to check if they are on track or not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o as to guide teacher and students in self, peer and student evaluation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Tahoma"/>
              </a:rPr>
              <a:t>Co-construction of Success Criteria with Studen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Discuss with students what success criteria are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May begin by just giving students the success criteria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Explicitly model for students how to construct success criteria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Invite students to contribute to the success criteria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Timing / process will vary depending on the learning contex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0920" y="260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Tahoma"/>
              </a:rPr>
              <a:t>Model the Process or Examine an Exempla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An opportunity to see what we’re learning about and what it might look like – extra guidance for students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Modelling or examples can be used to co-construct the success criteria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Stronger involvement by student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Students are making connection between the learning and the task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Much more challenging than being given the success criteria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Tahoma"/>
              </a:rPr>
              <a:t>Examples / Modell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78000" y="2465280"/>
            <a:ext cx="7340400" cy="31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National Exemplars of writing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Journals/books/etc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Teacher-written exampl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Teacher modelling of a proces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Global and Specific Learning Intentions:</a:t>
            </a: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or example: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Global:  Learning how to persuade others in our writing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pecific:  Learning to write the opening paragraph of an argument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ore specific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earning how to get the reader involved and interested in my argument from the start, or…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earning how to back up a point with convincing evidence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51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Learning intentions, success criteria and task need to be separated but aligned.</a:t>
            </a:r>
            <a:endParaRPr b="0" lang="en-US" sz="32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Learning Intention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is what you want the students to learn or understand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uccess Criteria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answers the question “How will we know we have achieved this?”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e instructions for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ctivities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nd Tasks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escribe the activities the students will carry out in order to lear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5791320" cy="10666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ssessment For Learning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rchway of Teaching Capabilities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341360"/>
            <a:ext cx="7467480" cy="9479160"/>
          </a:xfrm>
          <a:prstGeom prst="blockArc">
            <a:avLst>
              <a:gd name="adj1" fmla="val 10453754"/>
              <a:gd name="adj2" fmla="val 346246"/>
              <a:gd name="adj3" fmla="val 25875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1557360"/>
            <a:ext cx="182880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larity about what is to be learn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Learning Intention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success criteria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relevanc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exemplar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modelling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36576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2781360"/>
            <a:ext cx="16002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ssessmen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curriculum understanding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Pervasive quality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Quality Managemen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2852640"/>
            <a:ext cx="19047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Promoting Further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earning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Learning Conversatio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Feedback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Feed-forwar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4581360"/>
            <a:ext cx="175248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ctive Reflec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About learning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student engagemen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sense of partnership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72428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hared Clarity about next learning step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4437000"/>
            <a:ext cx="1943280" cy="57636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1989000"/>
            <a:ext cx="1297080" cy="180036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003640" y="1916280"/>
            <a:ext cx="1224000" cy="18730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012000" y="4076280"/>
            <a:ext cx="1873080" cy="79236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4724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Effective Learn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4005360"/>
            <a:ext cx="2666880" cy="1981080"/>
          </a:xfrm>
          <a:prstGeom prst="donut">
            <a:avLst>
              <a:gd name="adj" fmla="val 14879"/>
            </a:avLst>
          </a:prstGeom>
          <a:solidFill>
            <a:srgbClr val="0000c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677440" y="4952880"/>
          <a:ext cx="46008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77440" y="4952880"/>
                    <a:ext cx="4600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755640" y="638172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6165720"/>
            <a:ext cx="7488000" cy="646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Building Learning-Focused Relationship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Arial"/>
              </a:rPr>
              <a:t>The archway is standing on a firm foundation of trusted and supportive relationship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00720" y="6165720"/>
            <a:ext cx="180036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NZ" sz="4400" spc="-1" strike="noStrike">
                <a:solidFill>
                  <a:srgbClr val="ff9900"/>
                </a:solidFill>
                <a:latin typeface="Tahoma"/>
              </a:rPr>
              <a:t>Alignment:</a:t>
            </a: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LI:  Learn how to describe an event in detail (so the reader gets a better picture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SC: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I have written about: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What I could see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What I could hear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What I was feeling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Task:  Re-write your introduction with more detail (or try a different event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Tahoma"/>
              </a:rPr>
              <a:t>Check that students understand</a:t>
            </a:r>
            <a:endParaRPr b="0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Give frequent opportunities for students to check their understanding with you or one another</a:t>
            </a:r>
            <a:br>
              <a:rPr sz="3200"/>
            </a:b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Give students time to think before responding to a question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Model for the students how they might think and share with other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9900"/>
                </a:solidFill>
                <a:latin typeface="Tahoma"/>
              </a:rPr>
              <a:t>Display L.I and S.C</a:t>
            </a: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These need to be visually displayed so you and students can refer back to them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Some ideas to save your time &amp; the school’s money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save LIs and SCs on the computer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record LIs and SCs once on a laminated card that can be shifted from the whiteboard to a display area.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Create a flip-chart or A3 Booklet so students can refer back to them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705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ahoma"/>
              </a:rPr>
              <a:t>Recapping... </a:t>
            </a:r>
            <a:br>
              <a:rPr sz="4000"/>
            </a:br>
            <a:r>
              <a:rPr b="1" lang="en-US" sz="4000" spc="-1" strike="noStrike">
                <a:solidFill>
                  <a:srgbClr val="ff9900"/>
                </a:solidFill>
                <a:latin typeface="Tahoma"/>
              </a:rPr>
              <a:t>...the beginning steps</a:t>
            </a:r>
            <a:endParaRPr b="0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55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Clarify Learning Intentions at planning stage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Create a climate where students expect a Learning Inten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Explain the LI in student-speak and display i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Discuss the reason for learning thi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Model the process or examine an exemplar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Invite students to say how we will know this has been learnt and write the Success Criter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Introduce the task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Check the students understand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Get the students to refer back to the LIs and SCs</a:t>
            </a:r>
            <a:r>
              <a:rPr b="0" lang="en-AU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How the principles of ‘Clarity’ and ‘Partnership’ could be put into action</a:t>
            </a:r>
            <a:endParaRPr b="0" lang="en-US" sz="32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llow the video and observe the elements of that are pres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Shared clarity about what is to be learnt</a:t>
            </a: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Learning Intention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uccess criteri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levanc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odelling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54936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9900"/>
                </a:solidFill>
                <a:latin typeface="Times New Roman"/>
              </a:rPr>
              <a:t>Learning Inten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3141720"/>
            <a:ext cx="6769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first ‘active’ element of formative assessment in the classroom is the sharing of Learning Intentions.”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                 - Shirley Clarke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302904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278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ahoma"/>
              </a:rPr>
              <a:t>Be clear in your own mind</a:t>
            </a:r>
            <a:endParaRPr b="0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200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What it is that you want the students to learn or understan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Write it down in ‘teacher-speak’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3500280"/>
            <a:ext cx="820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ahoma"/>
              </a:rPr>
              <a:t>Translate into student - spea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4653000"/>
            <a:ext cx="777240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ake your ‘teacher - speak’ Learning Intention and put it into language that your students can understand clearly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Judging the quality of learning intentions…</a:t>
            </a:r>
            <a:endParaRPr b="0" lang="en-US" sz="3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o make a list of all the words for ‘said’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Write a learning intention that captures the learning behind this activity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Judging the quality of learning intentions…</a:t>
            </a:r>
            <a:endParaRPr b="0" lang="en-US" sz="3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o create text that clearly conveys the sense of a character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word this as a learning intention that students could more easily understand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Judging the quality of learning intentions…</a:t>
            </a:r>
            <a:endParaRPr b="0" lang="en-US" sz="3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o write a recount about school camp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write this as a learning intention that is ‘context-free’.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Judging the quality of learning intentions…</a:t>
            </a:r>
            <a:endParaRPr b="0" lang="en-US" sz="3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Learning to use capital letters and full stop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write this so it captures the ‘deeper’ ideas inherent in the learning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2:29:17Z</dcterms:created>
  <dc:creator> Michael Absolum</dc:creator>
  <dc:description/>
  <dc:language>en-US</dc:language>
  <cp:lastModifiedBy>Apple Education</cp:lastModifiedBy>
  <cp:lastPrinted>2005-01-26T03:57:04Z</cp:lastPrinted>
  <dcterms:modified xsi:type="dcterms:W3CDTF">2007-06-06T04:52:37Z</dcterms:modified>
  <cp:revision>89</cp:revision>
  <dc:subject/>
  <dc:title>No Slide Title</dc:title>
</cp:coreProperties>
</file>